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5AB-D6FF-42BD-9BC1-2AC06E11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B44-4F8C-4BA7-9D0A-045E7BED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E40-EFCC-4756-B56F-5EC07A26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0A0-5DB1-44A5-A61D-389FAF23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6F4-3EB5-4D28-A4D7-A997B843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849-28A6-4FC1-8B69-890BAB07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318-270C-4FB0-BB14-8F514699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1D6-48DA-43B2-B98F-16D3DE1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46F-2A7F-4EF1-95FB-3AD0CD2A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F4C-B55C-4940-A769-04F22F0E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C5C-125D-4B01-ADA8-7D46F04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162-D45A-4E2E-A386-43CDD28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FC6E-96DB-46D0-A034-57800DDBE5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č potřebujeme soulad pracovního a rodinného živ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vel Janíčko, ČMK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erence ČMKOS 25.9.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 projek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silování sociálního dialogu   týkajícího se možností zkracování pracovní doby bez snížení mzdy a využívání flexibilních forem rozvržení pracovní doby ve vazběna produktivitu práce, konkurenceschopnost podniků a slaďování pracovního, osob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íčová aktivita 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KA 04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Slaďování pracovní, osobního a rodinného života s vazbou n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kracování pracovní doby a flexibilních forem rozvržení pracovní do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 K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apování vývoje využití různých flexibilních forem zaměstnanosti v České republice, EU a v širším mezinárodním měřítku s důrazem na jejich uplatnění v jednotlivých věkových kategoriích. Posouzení vzájemného vztahu a podmíněností mezi charakteristikami demografického vývoje a rozšířením těchto forem zaměstnanosti. Zhodnocení vztahu  flexibilizace práce a demografických vývojových trendů v ČR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souzení užití tzv.flexibilních forem práce jako možného nástroje k prosazení udržitelného  demografického vývo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Formulace námětů pro stanovení pozice a cílů odbor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edpokládaná věková struktura obyvatelstv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2" descr="C:\Users\tom\Desktop\graf2.gif"/>
          <p:cNvPicPr/>
          <p:nvPr/>
        </p:nvPicPr>
        <p:blipFill>
          <a:blip r:embed="rId1"/>
          <a:stretch/>
        </p:blipFill>
        <p:spPr>
          <a:xfrm>
            <a:off x="1217520" y="1628640"/>
            <a:ext cx="670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kce vývoje neproduktivní složky populace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1" descr="C:\Users\tom\Desktop\graf1.gif"/>
          <p:cNvPicPr/>
          <p:nvPr/>
        </p:nvPicPr>
        <p:blipFill>
          <a:blip r:embed="rId1"/>
          <a:stretch/>
        </p:blipFill>
        <p:spPr>
          <a:xfrm>
            <a:off x="1047600" y="1600200"/>
            <a:ext cx="704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43280" y="1989000"/>
          <a:ext cx="4356360" cy="34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989000"/>
                    <a:ext cx="435636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79280" y="1989000"/>
          <a:ext cx="4321440" cy="338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989000"/>
                    <a:ext cx="432144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populace podle vě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rnutí populace – příč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lepšení zdravotní a sociální pozice starší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poro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tipopulační k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ém udržitelnosti důchodov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rnutí populace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lepšení propopulačního klimatu včetně zabezpečení souladu pracovního a rodinného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ým řešením n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mi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unování věku odchodu do důch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08:02:38Z</dcterms:created>
  <dc:creator>Janíčko Pavel</dc:creator>
  <dc:description/>
  <dc:language>en-US</dc:language>
  <cp:lastModifiedBy>Janíčko Pavel</cp:lastModifiedBy>
  <dcterms:modified xsi:type="dcterms:W3CDTF">2017-09-22T07:04:37Z</dcterms:modified>
  <cp:revision>4</cp:revision>
  <dc:subject/>
  <dc:title>Proč potřebujeme soulad pracovní a rodinné politiky?</dc:title>
</cp:coreProperties>
</file>